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CA1-EDE0-4033-8446-DB32EBE3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25A-984C-4C0E-8279-B5DF900F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8A576-AC51-4218-AA79-70DDC1A8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A02FD-DB4B-4D5C-BA74-029264E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608CE-2DCF-4BCE-A088-D21A514C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BB63E-0CF7-42CD-929F-59A1CC60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17240-7716-42A6-B692-226820D0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E5439-ECD4-4FFF-BA63-6D2BE6D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67B80-A403-48C4-BC26-14181BEE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3C1CE-9D41-41F1-95AE-25C1EF6F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DEE13-51CE-46EC-AF8A-01F88BAF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53D-63A1-4EB5-8EEB-1C8DD4FA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998-6027-45AA-B90D-4D8EEBC7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99CF-8858-445B-8CE5-CCD3056B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4043-7E17-49F3-B4B0-5C834371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9513-95F0-46B1-A16B-E68EF254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C7E6-D497-418D-A600-F1AF9FF7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A1E-28BB-4027-8BEA-DE0E70B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1DE1-5496-4BDA-8496-4986F298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27FB-7410-4C92-B4C8-AD8026A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3F5-DCBC-4127-B7D2-5A7AD603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A858-8F1C-4C3D-8F1A-E093D79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0059-B857-4E0B-AEEA-E7DAA94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C8B6-7467-400F-897F-DAC5A6CE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2C71-7156-4751-8571-815F25E1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3F85-5284-4520-ABC1-561C913B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3EE0-8D1B-411E-940A-CB49A707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6C22-5949-4423-BB5E-96D9D6DA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66FD-16D3-4EAC-AF46-284C90DD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D107-A3D5-4E6E-AB24-6C036E6C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C242-73C1-4D0D-836E-75BB3763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881-4108-41C2-ACFA-96F86A5C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EE81-58B4-4C10-A948-6A4936A6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D03D-E80D-422F-8B6E-D729B146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D172F-AD32-4708-A238-090DB750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F068-FD78-41A4-AD41-65AFF3A5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348C-3C9E-4FD6-8C49-820817F9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9997-21B7-45AA-A341-BB22B3FA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A183-02C0-4F73-9284-7A313E47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54FC2-1966-4727-9AED-703838A6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D67D-2DE2-49FA-AE22-3D6F733D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2109-516E-4022-92C4-E8A002E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010-E6C8-4ED0-9A17-49D6A891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95B0F-B05E-4350-BB5A-D88A8718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1328-F0A4-4D61-94E3-52B6A1B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0EFEB-7F7A-43E1-A4A8-1E58DC7E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DA85-9CB9-46F8-A5E2-AD66662E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FCDB-1F05-410B-B55C-94C8C06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8431-72C4-4E0A-8BC9-41D682EE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4E4A7-375D-4270-81FE-76C4F9DD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8D189-C8F1-4E91-9595-F54D00E6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F399-1DE1-41EB-8673-45538FEE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4971D-1670-423B-80F2-EF19FD3C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5AA-B275-439F-B5A9-EAB6547E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F48DD-E3F3-4248-ADFF-077C8F52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B3E5C-E9C3-44E0-B500-5B9DBDB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2CCD1-24F4-4803-BFAE-E15AAD05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B26C-6DA6-41FF-90DE-575E4BBD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1ED84-935D-4FA2-ADA0-733EFF80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DA26A-2EDE-4BE9-B152-461E3CB0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8D211-E17B-44E8-BD15-52A81B4F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F2DF-BC1C-4FAC-A79D-B7218D09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FBE6-9DFB-46BF-8930-DA01ADD5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B36B-1DDC-4010-A9F8-AC89AF39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736-31F4-4C93-B957-E25AEF14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D017-264C-4E44-8542-D4BDCB3E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EDE02-A18D-4AB2-86E5-4D16330C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B1B2-2FE8-498A-959A-BD9F6BF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21C10-91D0-4E19-B453-F5D92C9D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2C25-7812-42EA-86E8-6D36BD83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3600-3A0A-46A4-B7C1-274923A8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F3216-1A4F-4B0F-9259-FB1E9CCA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A31F4-248B-4A2E-9344-5E6733B5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88D6-5E7F-4125-861B-88B89738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5A57-2935-49FA-A0C2-F40E9F56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1FF-C02D-4583-9D9E-B9D74D6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5A086-A9AE-4836-97B9-09ADC3F9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DE59E-EDFC-412E-93E2-7E9213D4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82574-FBCE-4F18-9DBE-0B0A2DB1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D3092-D667-41D4-94DF-F2506413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A1E95-0A91-4A64-B5E7-A697ABB6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00A28-CC43-472A-A609-0F31B4C6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D199D-F8C4-444A-905E-F89B1117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C4D06-CD03-4183-A617-815FF19D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A2C41-2808-4C65-B7F9-1487655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3536F-2DC5-405A-AAA7-E9F0161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DBC-7DB2-4F33-971A-897F300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4DA5-7F32-4002-9661-5DD2361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F3CE-D31F-477A-9ED0-FDEDD9C0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7AED5-4857-489B-AAD5-DB93CD20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69C45-C735-458A-A754-1D6C2EFD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DECB5-9B27-410C-9160-5359ABA3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ED73-106B-4CCF-B4DE-0054D859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2C6C6-82CB-44AC-AC3D-760A25F3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EAC10-97A0-4B7D-8CF7-3447094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013B2-FB01-4F78-8608-D8EFFE69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F8429-80CE-40F4-8C1C-EB43621C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B9F-0B65-4F67-BB08-D77859B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07B1D-78B0-4610-8507-E1195CDD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36859-1F51-4760-A830-4FBE9E4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3406E-8C28-471B-AFC4-BA440E98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1792B-C951-4781-97A2-F8340FF0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8ADFC-01C7-408A-8F55-FD13E83D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32B04-E46A-43CB-B2E5-6D852BD7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76EA0-096E-4389-B303-E849BE0D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8226C-BC99-4691-A3D8-1E59CE25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6335B-B032-457F-AAF5-BBEB56AC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1DC80-E581-4279-848E-72159A2D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2BBE-778E-4DB6-8ADA-0F85F5F8A0C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C69F-5CF0-424F-89A0-9A8D5120F0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F3F-6E1E-4557-8DEA-4BCEC1BBB29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4511-2CE4-4E30-832C-8A96DABD44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8CE-EED8-464F-8F21-381119565F7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C232-7EF2-4973-B071-FF8CC0C6F2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6C8-0C3A-4A98-A996-E3C40396001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75B6-9F80-49A0-BEB7-DF003B1CAE7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05C-7B05-4413-8195-9684506031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24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Не говори, что делал, 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а говори, что сделал.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ddd2b1"/>
                </a:solidFill>
                <a:latin typeface="Franklin Gothic Book"/>
              </a:rPr>
              <a:t>(пословица)</a:t>
            </a:r>
            <a:endParaRPr b="0" lang="en-US" sz="48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всем  удач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00120" y="214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овторение основных 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28760" y="7142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…,            которая обращает каждое уравнение системы в …       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…                  или доказать, что…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…; система не имеет решений, если прямые …        ; если прямые …                    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500120" y="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ове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428760" y="42876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 значений перем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обращает каждое уравнение системы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е ее реш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доказать, чт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й н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я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сек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система не имеет решений,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лл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впад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рафически, способом перебора (подбора), подстановки, слож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560" y="1071360"/>
            <a:ext cx="41907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4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8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х = 0,16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х - 7 =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(3 – х) = 9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–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2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7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у = -0,2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у + 1 = 2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3(у – 15) = 0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071720"/>
            <a:ext cx="419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4 –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8 – 2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0,04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4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1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2 +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7 – 4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0,0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1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се правильно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8-9 правильных ответов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7-6-5  правильных ответов –   </a:t>
            </a:r>
            <a:r>
              <a:rPr b="0" i="1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  остальных случаях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1357200" y="714240"/>
            <a:ext cx="6786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42920" y="42876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 5x +2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Левая фигурная скобка 2"/>
          <p:cNvSpPr/>
          <p:nvPr/>
        </p:nvSpPr>
        <p:spPr>
          <a:xfrm>
            <a:off x="285840" y="500040"/>
            <a:ext cx="285840" cy="785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785880"/>
              <a:gd name="textAreaBottom" fmla="*/ 7786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071880" y="42876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- 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5357880" y="5000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2 (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 – 3x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)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5"/>
          <p:cNvSpPr/>
          <p:nvPr/>
        </p:nvSpPr>
        <p:spPr>
          <a:xfrm>
            <a:off x="3929040" y="500040"/>
            <a:ext cx="107172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 стрелкой 7"/>
          <p:cNvCxnSpPr/>
          <p:nvPr/>
        </p:nvCxnSpPr>
        <p:spPr>
          <a:xfrm flipH="1">
            <a:off x="2571120" y="857160"/>
            <a:ext cx="1429560" cy="28656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3" name="Овал 8"/>
          <p:cNvSpPr/>
          <p:nvPr/>
        </p:nvSpPr>
        <p:spPr>
          <a:xfrm>
            <a:off x="1643040" y="928800"/>
            <a:ext cx="357120" cy="50004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9"/>
          <p:cNvSpPr/>
          <p:nvPr/>
        </p:nvSpPr>
        <p:spPr>
          <a:xfrm>
            <a:off x="5357880" y="642960"/>
            <a:ext cx="214200" cy="71424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Прямая со стрелкой 13"/>
          <p:cNvCxnSpPr>
            <a:stCxn id="421" idx="5"/>
          </p:cNvCxnSpPr>
          <p:nvPr/>
        </p:nvCxnSpPr>
        <p:spPr>
          <a:xfrm>
            <a:off x="4843440" y="864720"/>
            <a:ext cx="1944000" cy="13572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6" name="Овал 14"/>
          <p:cNvSpPr/>
          <p:nvPr/>
        </p:nvSpPr>
        <p:spPr>
          <a:xfrm>
            <a:off x="6786720" y="1000080"/>
            <a:ext cx="128556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1000080" y="200016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14 – 6x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- 6x = 3 –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11x = 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2"/>
          <p:cNvSpPr/>
          <p:nvPr/>
        </p:nvSpPr>
        <p:spPr>
          <a:xfrm>
            <a:off x="928800" y="3357720"/>
            <a:ext cx="1071360" cy="42840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лилиния 25"/>
          <p:cNvSpPr/>
          <p:nvPr/>
        </p:nvSpPr>
        <p:spPr>
          <a:xfrm>
            <a:off x="2019240" y="939960"/>
            <a:ext cx="2703600" cy="2616120"/>
          </a:xfrm>
          <a:prstGeom prst="pie">
            <a:avLst/>
          </a:pr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 стрелкой 27"/>
          <p:cNvCxnSpPr/>
          <p:nvPr/>
        </p:nvCxnSpPr>
        <p:spPr>
          <a:xfrm flipH="1" flipV="1">
            <a:off x="4571640" y="928080"/>
            <a:ext cx="72000" cy="2149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31" name="Прямая со стрелкой 29"/>
          <p:cNvCxnSpPr/>
          <p:nvPr/>
        </p:nvCxnSpPr>
        <p:spPr>
          <a:xfrm>
            <a:off x="4713840" y="928440"/>
            <a:ext cx="143640" cy="285804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32" name="TextBox 30"/>
          <p:cNvSpPr/>
          <p:nvPr/>
        </p:nvSpPr>
        <p:spPr>
          <a:xfrm>
            <a:off x="3571920" y="38577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7 – 3•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785880" y="485784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твет :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Решением системы является пара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x = 1;  y = 4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(1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4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714240" y="0"/>
            <a:ext cx="7858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и решении системы двух линейных уравнений с двумя переменными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ыразить из какого-нибудь уравнения одну переменную через другу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подставить в другое уравнение системы вместо этой переменной полученное вы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решить получившееся уравнение с одн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найти соответствующее значение втор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2"/>
          <p:cNvSpPr/>
          <p:nvPr/>
        </p:nvSpPr>
        <p:spPr>
          <a:xfrm>
            <a:off x="500040" y="1143000"/>
            <a:ext cx="8358120" cy="4786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45:06Z</dcterms:created>
  <dc:creator>Алёна</dc:creator>
  <dc:description/>
  <dc:language>en-US</dc:language>
  <cp:lastModifiedBy>iLvit</cp:lastModifiedBy>
  <dcterms:modified xsi:type="dcterms:W3CDTF">2012-04-11T17:50:32Z</dcterms:modified>
  <cp:revision>49</cp:revision>
  <dc:subject/>
  <dc:title>Слайд 1</dc:title>
</cp:coreProperties>
</file>